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1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2C8-9505-499C-9A27-11A74C1A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317-91F4-4692-9935-F77F92C4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D71-622F-4F87-8B14-8B817A22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44B-FDD7-4671-9507-497D03E1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6C6E-152A-4BA2-9C33-50A0BD88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F0DF-A1C2-4142-9E53-4262CDA9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6D71-935C-4B4A-B2D4-B757D071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180D-37A9-44EF-9D4C-DB5B36CF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DA16-F9AD-4F89-A4FD-F6E1EED1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62D5-3F54-46E6-845C-A7A0486B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C353-261A-4259-87CB-EEF3F4C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B35-CB15-49D9-8087-FED80EBA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4773-CBBD-406D-A36C-760B35B7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11BB-DAF0-4F78-93F2-A41D7336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7A43-6846-4C65-9898-C5BDA478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F8A4-A3C4-4A57-9510-396BA632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0A38-1CD0-4935-977C-8785D814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7DB-D3E8-477B-8DB6-A2F7E1FF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977-02D5-4EA4-9331-E98A5656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8BF-302D-40EF-97A9-74ECF0E3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44B-12B5-4AC4-93DD-318D449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9D2-B46F-49F2-9FEF-3A7AF05C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C00-F126-4051-941E-58E429D4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271-9153-44A8-8837-BD7C56D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88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84FE-55B2-4926-B38D-6E751463AE87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8AEA-D2BB-4522-9523-289F8AA39F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88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22A4-430A-4744-A353-8BD3C6937B0E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2B33-E373-492D-B232-AD0EEA1E44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67520" y="1359000"/>
            <a:ext cx="1200240" cy="1355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7240"/>
            <a:ext cx="9144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05080"/>
            <a:ext cx="9144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Precarie, Atipiche, Indetermina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il lavoro delle donne oggi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7 Marzo 20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528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3960" y="1039680"/>
            <a:ext cx="2038320" cy="18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3340080" y="1366920"/>
          <a:ext cx="2552760" cy="12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0080" y="1366920"/>
                    <a:ext cx="255276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0040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920" y="622440"/>
            <a:ext cx="8991720" cy="99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centuale di lavoratrici precarie, a tempo indeterminato e autonome, che hanno un </a:t>
            </a:r>
            <a:r>
              <a:rPr b="1" lang="it-IT" sz="2200" spc="-1" strike="noStrike">
                <a:solidFill>
                  <a:srgbClr val="3333cc"/>
                </a:solidFill>
                <a:latin typeface="Garamond"/>
                <a:ea typeface="Times New Roman"/>
              </a:rPr>
              <a:t>disagio lavorativo pervasivo</a:t>
            </a:r>
            <a:r>
              <a:rPr b="1" lang="it-IT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. Confronto per classi d’età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143000" y="1943280"/>
            <a:ext cx="698508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8920" y="622440"/>
            <a:ext cx="8991720" cy="99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centuale di lavoratrici precarie, a tempo indeterminato e autonome, che hanno un </a:t>
            </a:r>
            <a:r>
              <a:rPr b="1" lang="it-IT" sz="2200" spc="-1" strike="noStrike">
                <a:solidFill>
                  <a:srgbClr val="3333cc"/>
                </a:solidFill>
                <a:latin typeface="Garamond"/>
                <a:ea typeface="Times New Roman"/>
              </a:rPr>
              <a:t>disagio lavorativo pervasivo</a:t>
            </a:r>
            <a:r>
              <a:rPr b="1" lang="it-IT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. Confronto tra 2008/201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500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82640" y="1811160"/>
            <a:ext cx="72486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5800"/>
            <a:ext cx="798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o Lei, l’aumento del precariato a seguito dell’attuale crisi economica, può intaccare o condizionare le sue attuali condizioni di lavoro? (Lavoratrici; n=7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444600" y="1905120"/>
          <a:ext cx="8132760" cy="46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905120"/>
                    <a:ext cx="81327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1960" y="723960"/>
            <a:ext cx="856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o Lei, l’attuale crisi economica ha portato i lavorator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 accettare condizioni di lavoro meno favorevoli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Lavoratrici; n=7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495360" y="1905120"/>
          <a:ext cx="8132760" cy="46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360" y="1905120"/>
                    <a:ext cx="81327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91960" y="723960"/>
            <a:ext cx="79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ggetti più colpiti dall’attuale crisi economic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Lavoratrici; n=7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495360" y="1905120"/>
          <a:ext cx="8132760" cy="46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360" y="1905120"/>
                    <a:ext cx="81327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4160" y="762120"/>
            <a:ext cx="515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i ha figl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Precarie; n=2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0" y="1511280"/>
          <a:ext cx="7937640" cy="505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11280"/>
                    <a:ext cx="793764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023240" y="641520"/>
          <a:ext cx="1968480" cy="6013440"/>
        </p:xfrm>
        <a:graphic>
          <a:graphicData uri="http://schemas.openxmlformats.org/drawingml/2006/table">
            <a:tbl>
              <a:tblPr/>
              <a:tblGrid>
                <a:gridCol w="990360"/>
                <a:gridCol w="978120"/>
              </a:tblGrid>
              <a:tr h="26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nn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uto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p. a tempo inde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71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i ha figli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alità differenziate per motivazio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Precarie; n=2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0" y="1828800"/>
          <a:ext cx="8039160" cy="476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80391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074000" y="438120"/>
          <a:ext cx="1968480" cy="6127920"/>
        </p:xfrm>
        <a:graphic>
          <a:graphicData uri="http://schemas.openxmlformats.org/drawingml/2006/table">
            <a:tbl>
              <a:tblPr/>
              <a:tblGrid>
                <a:gridCol w="990360"/>
                <a:gridCol w="978120"/>
              </a:tblGrid>
              <a:tr h="2491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nn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uto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p. a tempo inde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85800"/>
            <a:ext cx="669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l lavoro come motivazio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ritardare la maternit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o per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non avere figl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Precarie; n=2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52280" y="1892160"/>
          <a:ext cx="6337440" cy="496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892160"/>
                    <a:ext cx="633744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972480" y="743040"/>
          <a:ext cx="1968480" cy="5848200"/>
        </p:xfrm>
        <a:graphic>
          <a:graphicData uri="http://schemas.openxmlformats.org/drawingml/2006/table">
            <a:tbl>
              <a:tblPr/>
              <a:tblGrid>
                <a:gridCol w="990360"/>
                <a:gridCol w="978120"/>
              </a:tblGrid>
              <a:tr h="26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nn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uto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p. a tempo inde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85800"/>
            <a:ext cx="58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dita del lavoro per una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gravidanz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Precarie; n=2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82760" y="1473120"/>
          <a:ext cx="8420040" cy="49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760" y="1473120"/>
                    <a:ext cx="84200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972480" y="920880"/>
          <a:ext cx="1968480" cy="5309640"/>
        </p:xfrm>
        <a:graphic>
          <a:graphicData uri="http://schemas.openxmlformats.org/drawingml/2006/table">
            <a:tbl>
              <a:tblPr/>
              <a:tblGrid>
                <a:gridCol w="990360"/>
                <a:gridCol w="978120"/>
              </a:tblGrid>
              <a:tr h="5036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nn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uto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p. a tempo inde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85800"/>
            <a:ext cx="798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tteggiamento dell’azienda verso i casi di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maternit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gli ultimi due anni (Lavoratrici; n=7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444600" y="1905120"/>
          <a:ext cx="8132760" cy="46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905120"/>
                    <a:ext cx="81327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385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3120" y="3092400"/>
            <a:ext cx="3408480" cy="327816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187.4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nne resi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 provincia di Bolo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 i 25 anni e i 50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1080" y="2749680"/>
            <a:ext cx="4267080" cy="45756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 interviste telefo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486240"/>
            <a:ext cx="4267080" cy="1635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pione rappresentativo casuale, stratificato 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na di residenz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iste svolte in ottobr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716280" y="393336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2495520"/>
            <a:ext cx="4648320" cy="3449520"/>
          </a:xfrm>
          <a:prstGeom prst="rect">
            <a:avLst/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280" y="749160"/>
            <a:ext cx="8504280" cy="731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cheda sintetica della metodologia di inda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990720"/>
            <a:ext cx="58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cezione di protezione dalla propria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rete familia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(Precarie; n=2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368280" y="2247840"/>
          <a:ext cx="6127920" cy="363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8280" y="2247840"/>
                    <a:ext cx="612792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972480" y="920880"/>
          <a:ext cx="1968480" cy="4953960"/>
        </p:xfrm>
        <a:graphic>
          <a:graphicData uri="http://schemas.openxmlformats.org/drawingml/2006/table">
            <a:tbl>
              <a:tblPr/>
              <a:tblGrid>
                <a:gridCol w="990360"/>
                <a:gridCol w="978120"/>
              </a:tblGrid>
              <a:tr h="4338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nn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uto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p. a tempo inde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7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8920" y="622440"/>
            <a:ext cx="8991720" cy="99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centuale di lavoratrici precarie, a tempo indeterminato e autonome, che hanno un </a:t>
            </a:r>
            <a:r>
              <a:rPr b="1" lang="en-US" sz="2200" spc="-1" strike="noStrike">
                <a:solidFill>
                  <a:srgbClr val="3333cc"/>
                </a:solidFill>
                <a:latin typeface="Garamond"/>
                <a:ea typeface="Times New Roman"/>
              </a:rPr>
              <a:t>carico sociale alto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. Confronto per classi d’età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500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9064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7960" y="1854360"/>
            <a:ext cx="80200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8920" y="622440"/>
            <a:ext cx="8991720" cy="99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centuale di lavoratrici precarie, a tempo indeterminato e autonome, che hanno un </a:t>
            </a:r>
            <a:r>
              <a:rPr b="1" lang="en-US" sz="2200" spc="-1" strike="noStrike">
                <a:solidFill>
                  <a:srgbClr val="3333cc"/>
                </a:solidFill>
                <a:latin typeface="Garamond"/>
                <a:ea typeface="Times New Roman"/>
              </a:rPr>
              <a:t>carico sociale alto/medio-alto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. Confronto per classi d’età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500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596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14360" y="1824120"/>
            <a:ext cx="83534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571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rvizi o diritti istituzionali utilizzati nel corso della vita lavorativ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Lavoratrici; n=7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216000" y="1428840"/>
          <a:ext cx="871200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428840"/>
                    <a:ext cx="871200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4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ipologia di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Benefi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preferi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Lavoratrici; n=7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216000" y="1428840"/>
          <a:ext cx="871200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428840"/>
                    <a:ext cx="871200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0040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22440"/>
            <a:ext cx="9144000" cy="99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centuale di lavoratrici precarie, a tempo indeterminato e autonome, che hanno un </a:t>
            </a:r>
            <a:r>
              <a:rPr b="1" lang="en-US" sz="2100" spc="-1" strike="noStrike">
                <a:solidFill>
                  <a:srgbClr val="3333cc"/>
                </a:solidFill>
                <a:latin typeface="Garamond"/>
                <a:ea typeface="Times New Roman"/>
              </a:rPr>
              <a:t>carico esistenziale alto/medio-alto</a:t>
            </a: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. Confronto per classi d’età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5264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69960" y="1778040"/>
            <a:ext cx="7727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8920" y="622440"/>
            <a:ext cx="8991720" cy="99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centuale di lavoratrici precarie, a tempo indeterminato e autonome, che hanno un </a:t>
            </a:r>
            <a:r>
              <a:rPr b="1" lang="en-US" sz="2100" spc="-1" strike="noStrike">
                <a:solidFill>
                  <a:srgbClr val="3333cc"/>
                </a:solidFill>
                <a:latin typeface="Garamond"/>
                <a:ea typeface="Times New Roman"/>
              </a:rPr>
              <a:t>carico esistenziale alto/medio-alto</a:t>
            </a: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. Confronto tra 2008/2010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500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4796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4520" y="1811160"/>
            <a:ext cx="78642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5960" y="2127240"/>
            <a:ext cx="2146320" cy="443484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54800" bIns="154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og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na-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ag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ondari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ol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0720" y="800280"/>
            <a:ext cx="3399120" cy="731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trati territori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1640" y="1936800"/>
            <a:ext cx="5854680" cy="50565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18800" bIns="118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zola dell'Emilia, Bazzano, Calderara di Reno, Casalecchio di Reno, Castel Maggiore, Castenaso, Crespellano, Granarolo dell'Emilia, Monte San Pietro, </a:t>
            </a:r>
            <a:r>
              <a:rPr b="1" lang="it-IT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Monteveglio, Ozzano dell'Emilia, Pianoro, San Lazzaro di Savena, Sasso Marconi, Zola Predosa;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Argelato, Baricella, Bentivoglio, Budrio, Castello d'Argile, Crevalcore, Galliera, Malalbergo, Minerbio, Molinella, Pieve di Cento, Sala Bolognese, </a:t>
            </a:r>
            <a:r>
              <a:rPr b="1" lang="it-IT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San Giorgio di Piano, San Giovanni in Persiceto, San Pietro in Casale, Sant'Agata Bologne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Camugnano, Castel d'Aiano, Castel di Casio, Castello di Serravalle, Castiglione dei Pepoli, Gaggio Montano, Granaglione, Grizzana Morandi, Lizzano in Belvedere, </a:t>
            </a:r>
            <a:r>
              <a:rPr b="1" lang="it-IT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iano, Marzabotto, Monghidoro, Monterenzio, Monzuno, Porretta Terme, San Benedetto Val di Sambro, Savigno, Verga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Borgo Tossignano, Casalfiumanese, Castel del Rio, Castel Guelfo di Bologna, Castel San Pietro Terme, Dozza, Fontanelice, </a:t>
            </a:r>
            <a:r>
              <a:rPr b="1" lang="it-IT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Imola, Medicina, Mordano;</a:t>
            </a: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5880" y="3048120"/>
            <a:ext cx="342720" cy="190440"/>
          </a:xfrm>
          <a:prstGeom prst="rightArrow">
            <a:avLst>
              <a:gd name="adj1" fmla="val 50000"/>
              <a:gd name="adj2" fmla="val 449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68480" y="4038480"/>
            <a:ext cx="343080" cy="190800"/>
          </a:xfrm>
          <a:prstGeom prst="rightArrow">
            <a:avLst>
              <a:gd name="adj1" fmla="val 50000"/>
              <a:gd name="adj2" fmla="val 4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08160" y="4940280"/>
            <a:ext cx="343080" cy="190440"/>
          </a:xfrm>
          <a:prstGeom prst="rightArrow">
            <a:avLst>
              <a:gd name="adj1" fmla="val 50000"/>
              <a:gd name="adj2" fmla="val 45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0440" y="6019920"/>
            <a:ext cx="343080" cy="190440"/>
          </a:xfrm>
          <a:prstGeom prst="rightArrow">
            <a:avLst>
              <a:gd name="adj1" fmla="val 50000"/>
              <a:gd name="adj2" fmla="val 45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41274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65360" y="50292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79840" y="6108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7200" y="31370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4160" y="762120"/>
            <a:ext cx="576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centuale di precarie che hanno sentito un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peggioramento nella qualità del lavoro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gli ultimi due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0" y="1511280"/>
          <a:ext cx="7937640" cy="505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11280"/>
                    <a:ext cx="793764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781680" y="1200240"/>
          <a:ext cx="2184480" cy="2910960"/>
        </p:xfrm>
        <a:graphic>
          <a:graphicData uri="http://schemas.openxmlformats.org/drawingml/2006/table">
            <a:tbl>
              <a:tblPr/>
              <a:tblGrid>
                <a:gridCol w="1098720"/>
                <a:gridCol w="1085760"/>
              </a:tblGrid>
              <a:tr h="80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uto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p. a tempo inde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1960" y="723960"/>
            <a:ext cx="856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centuale di lavoratrici che hanno sentito un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peggioramento nella condizione lavorati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gli ultimi due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495360" y="1905120"/>
          <a:ext cx="8132760" cy="46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360" y="1905120"/>
                    <a:ext cx="81327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4160" y="762120"/>
            <a:ext cx="57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centuale di precarie che hanno avuto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paura di perdere il lavoro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mpre o qu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1511280"/>
          <a:ext cx="7937640" cy="505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11280"/>
                    <a:ext cx="793764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781680" y="1200240"/>
          <a:ext cx="2184480" cy="4216320"/>
        </p:xfrm>
        <a:graphic>
          <a:graphicData uri="http://schemas.openxmlformats.org/drawingml/2006/table">
            <a:tbl>
              <a:tblPr/>
              <a:tblGrid>
                <a:gridCol w="1098720"/>
                <a:gridCol w="1085760"/>
              </a:tblGrid>
              <a:tr h="73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uto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p. a tempo inde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990720"/>
            <a:ext cx="58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rtecipazione a corsi di formazione (Precarie; n=2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68280" y="2247840"/>
          <a:ext cx="6127920" cy="363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8280" y="2247840"/>
                    <a:ext cx="612792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972480" y="920880"/>
          <a:ext cx="1968480" cy="4953960"/>
        </p:xfrm>
        <a:graphic>
          <a:graphicData uri="http://schemas.openxmlformats.org/drawingml/2006/table">
            <a:tbl>
              <a:tblPr/>
              <a:tblGrid>
                <a:gridCol w="990360"/>
                <a:gridCol w="978120"/>
              </a:tblGrid>
              <a:tr h="4338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nno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uto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p. a tempo inde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=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7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1452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0200" y="563400"/>
            <a:ext cx="88282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entro Demoscopico Metropolitano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sigliere di Parità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arzo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63760" y="0"/>
            <a:ext cx="473040" cy="533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1452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4360" y="557280"/>
            <a:ext cx="80992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11:39:45Z</dcterms:created>
  <dc:creator>MeDeC</dc:creator>
  <dc:description/>
  <dc:language>en-US</dc:language>
  <cp:lastModifiedBy>UTENTE</cp:lastModifiedBy>
  <dcterms:modified xsi:type="dcterms:W3CDTF">2015-03-25T12:17:42Z</dcterms:modified>
  <cp:revision>1521</cp:revision>
  <dc:subject/>
  <dc:title>Consumo culturale</dc:title>
</cp:coreProperties>
</file>